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FAC-3F2C-4CB7-B62C-54C9618B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88D-03FE-4738-8552-C8A2D30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3E5-8F50-4847-932C-2117A440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4EB-37F7-4DB0-98C0-61E9FB52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25FC-56F7-43AF-BCEA-01D36CB0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C619-3508-4F1D-80ED-55B6899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438-2745-4BAE-A750-BF6FA756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474C-35F1-4CC8-A5BB-2E35C92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36DE-4FB9-4228-9658-2719817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7E5E-958B-480C-8C88-C1932B71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502-1939-412B-9ECC-9E03BD3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093-1EF7-4941-807C-C9B7EA3A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4185-F585-4F6D-8451-DC106A59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81D1-DCB6-4803-8F3F-423A087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4F05-F17E-4A30-8289-E968F63C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737-13F7-412E-BFA4-7D490C1A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63D2-B981-4955-9C5D-13E4DC1D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08F-E6B3-49CF-9E88-53C6B5A7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EFA-938B-42A4-85C3-CBF2CBEF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C5C-E04F-4864-A27D-E2356BF8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621-4C50-4D42-8920-6E63F302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E1C-47A0-41C1-B8C9-F6903E1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AD3-CE7B-4005-8A97-E6A0F61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4A5-C8D9-45B6-8E83-CE212C8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4EC-A601-4A76-B73C-B57084F434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AF64-D99C-49E0-A1DB-5EFF1F471C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de the New 25-M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untain Bike Tr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terans’ P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9144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9d5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e9d5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 rot="19768800">
            <a:off x="228600" y="4460400"/>
            <a:ext cx="2622600" cy="23972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w Open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 For A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ng the whole family to ride the New   25-Mile Mountain Bike Tr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2282760" cy="2282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N’T HAVE A BIK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T A BIKE FOR ONLY $15 AN HOUR ( if bike is damaged it will be purchased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3827520"/>
            <a:ext cx="2652480" cy="1633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REE REFRESHMEN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 refreshments provided NO PURCHASE NECESS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1119240" cy="2478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N’T BE A LITTER BU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LITTERING ALLOW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19720" y="3429000"/>
            <a:ext cx="1571400" cy="2093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 CAREFUL!!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TCH THE TRAIL NOT THE SCENERY AS YOU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3084480"/>
            <a:ext cx="3747960" cy="3773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HAYDEN CALE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34:25Z</dcterms:created>
  <dc:creator>771009</dc:creator>
  <dc:description/>
  <cp:keywords/>
  <dc:language>en-US</dc:language>
  <cp:lastModifiedBy>771009</cp:lastModifiedBy>
  <dcterms:modified xsi:type="dcterms:W3CDTF">2009-03-31T15:38:27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21033</vt:lpwstr>
  </property>
</Properties>
</file>